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384-ED22-4856-A71F-B8EA48F5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B6-6FF9-467D-A7FE-9A472469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CC3-C444-4286-8AA5-4AE52FB9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F48-FBAF-4514-A13A-82CC1E0B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733-124D-4539-8F17-ADD4F25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FD1-EFEA-457A-A711-EC42E3AE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A272-C68F-4BDA-ACE7-3E45890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BDE-1CEF-4963-9BA9-80C2F03C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A66-3BB5-408B-AFDF-71DE9253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D8E-FC3A-401B-B6F2-38FEFA6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7E9-6733-459F-B7CE-5D098C4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17B-BFF3-4ACE-8DA1-679A051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0E56-EF49-4733-9C48-CEAADD90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39" b="948"/>
          <a:stretch/>
        </p:blipFill>
        <p:spPr>
          <a:xfrm>
            <a:off x="411120" y="509760"/>
            <a:ext cx="825012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640080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12952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6680" y="13716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12952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n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1430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or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1164" b="0"/>
          <a:stretch/>
        </p:blipFill>
        <p:spPr>
          <a:xfrm>
            <a:off x="411120" y="504720"/>
            <a:ext cx="8223120" cy="584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2952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12952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un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04720"/>
            <a:ext cx="8210520" cy="58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990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tly 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411120" y="504720"/>
            <a:ext cx="8197920" cy="5846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1143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1066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autiful / per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411120" y="523800"/>
            <a:ext cx="82105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411120" y="504720"/>
            <a:ext cx="8234280" cy="5846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1523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1371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g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1450" b="0"/>
          <a:stretch/>
        </p:blipFill>
        <p:spPr>
          <a:xfrm>
            <a:off x="411120" y="504720"/>
            <a:ext cx="819936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8380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ou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5:27:44Z</dcterms:created>
  <dc:creator>User</dc:creator>
  <dc:description/>
  <dc:language>en-US</dc:language>
  <cp:lastModifiedBy>a</cp:lastModifiedBy>
  <dcterms:modified xsi:type="dcterms:W3CDTF">2006-09-14T09:54:11Z</dcterms:modified>
  <cp:revision>2</cp:revision>
  <dc:subject/>
  <dc:title>Slide 1</dc:title>
</cp:coreProperties>
</file>